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DF5-5A6A-47AE-8FE0-5806E2CF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6DF-81C4-4650-B7B5-61DB1775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A8-55F7-4E86-809D-FA8DE99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164-D98E-4CB9-BEAF-D05AC350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02B-B610-48B1-910F-2E8EB81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D8F-97D2-41A0-8A4F-7990BD99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F39-4C29-4940-8CFC-B090A133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939-3682-409F-81B2-960BA5B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4280"/>
            <a:ext cx="68580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6D6-A6B2-4266-9299-2C0A7BAF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E5F-397F-440C-955D-81E07CA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DC6-14E7-425D-BDA1-B611ECA5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FC7-4E3F-4A85-8831-18ACB867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146720"/>
            <a:ext cx="2413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980-6F59-4A40-8672-B3C2A24267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3760" y="527040"/>
            <a:ext cx="3527280" cy="2347560"/>
            <a:chOff x="3803760" y="527040"/>
            <a:chExt cx="3527280" cy="2347560"/>
          </a:xfrm>
        </p:grpSpPr>
        <p:sp>
          <p:nvSpPr>
            <p:cNvPr id="42" name=""/>
            <p:cNvSpPr/>
            <p:nvPr/>
          </p:nvSpPr>
          <p:spPr>
            <a:xfrm>
              <a:off x="3803760" y="527040"/>
              <a:ext cx="3365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4 cabezas </a:t>
              </a:r>
              <a:r>
                <a:rPr b="0" lang="en-GB" sz="2100" spc="-1" strike="noStrike">
                  <a:solidFill>
                    <a:srgbClr val="ffff00"/>
                  </a:solidFill>
                  <a:latin typeface="Comic Sans MS"/>
                </a:rPr>
                <a:t>amarillas</a:t>
              </a:r>
              <a:r>
                <a:rPr b="0" lang="en-GB" sz="21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308480" y="860400"/>
              <a:ext cx="30225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orejas </a:t>
              </a:r>
              <a:r>
                <a:rPr b="0" lang="en-GB" sz="2100" spc="-1" strike="noStrike">
                  <a:solidFill>
                    <a:srgbClr val="ff0000"/>
                  </a:solidFill>
                  <a:latin typeface="Comic Sans MS"/>
                </a:rPr>
                <a:t>roja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8 manos  </a:t>
              </a:r>
              <a:r>
                <a:rPr b="0" lang="en-GB" sz="2100" spc="-1" strike="noStrike">
                  <a:solidFill>
                    <a:srgbClr val="00008b"/>
                  </a:solidFill>
                  <a:latin typeface="Comic Sans MS"/>
                </a:rPr>
                <a:t>azule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piernas </a:t>
              </a:r>
              <a:r>
                <a:rPr b="0" lang="en-GB" sz="2100" spc="-1" strike="noStrike">
                  <a:solidFill>
                    <a:srgbClr val="ffff00"/>
                  </a:solidFill>
                  <a:latin typeface="Comic Sans MS"/>
                </a:rPr>
                <a:t>amarilla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6 brazos negro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ojos </a:t>
              </a:r>
              <a:r>
                <a:rPr b="0" lang="en-GB" sz="2100" spc="-1" strike="noStrike">
                  <a:solidFill>
                    <a:srgbClr val="800080"/>
                  </a:solidFill>
                  <a:latin typeface="Comic Sans MS"/>
                </a:rPr>
                <a:t>morado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hombros </a:t>
              </a:r>
              <a:r>
                <a:rPr b="0" lang="en-GB" sz="2100" spc="-1" strike="noStrike">
                  <a:solidFill>
                    <a:srgbClr val="a52a00"/>
                  </a:solidFill>
                  <a:latin typeface="Comic Sans MS"/>
                </a:rPr>
                <a:t>marróne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00" y="174600"/>
            <a:ext cx="4165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 dibujo tiene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atro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bezas amari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ejas ro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cho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os  az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ernas amari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i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azos neg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jos mo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bros marró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7:13:16Z</dcterms:created>
  <dc:creator>Katy Oliver</dc:creator>
  <dc:description/>
  <dc:language>en-US</dc:language>
  <cp:lastModifiedBy>Katy Oliver</cp:lastModifiedBy>
  <dcterms:modified xsi:type="dcterms:W3CDTF">2012-03-02T07:13:16Z</dcterms:modified>
  <cp:revision>1</cp:revision>
  <dc:subject/>
  <dc:title>Slide 1</dc:title>
</cp:coreProperties>
</file>